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F5A72-5483-4B52-B130-EC1963C34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131D-8683-485C-B9CA-C94AAFBD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BE360-E758-40AE-93A1-E82709710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1A7D1-2D8D-4F7E-8357-32A85704B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B7038-EB0B-4EF6-908E-B0A4DF11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4567-FE11-4624-89B0-E156F915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E7C5-785F-43C3-9649-1AEBFCF96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D6E26-145A-4DD0-B29F-9772C8CA1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83984-0690-47A1-8088-20B9C24D2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83E4-A7C0-458D-9328-7B839D7F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883A-FD8D-4C73-B1D3-DFDD8C13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7B28-91C4-482E-9631-0728C1594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0698-8721-4F83-8D69-1036D89B6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5"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6"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LANAK</a:t>
            </a:r>
            <a:endParaRPr b="0" lang="en-US" sz="4400" spc="-1" strike="noStrike">
              <a:solidFill>
                <a:srgbClr val="000000"/>
              </a:solidFill>
              <a:latin typeface="Arial"/>
            </a:endParaRPr>
          </a:p>
        </p:txBody>
      </p:sp>
      <p:sp>
        <p:nvSpPr>
          <p:cNvPr id="48"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49"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0"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EKONOMI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7"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8"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0"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24T12:23:31Z</dcterms:modified>
  <cp:revision>7</cp:revision>
  <dc:subject/>
  <dc:title>Diapositiva 1</dc:title>
</cp:coreProperties>
</file>